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10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F0C-1C63-454B-9DB5-98067AF3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DE1-A36D-4EC4-B1DD-7505FF3E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4BB-616F-4E45-BCF1-14763C34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CBE-7619-4062-9A90-90A13515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E7D6-56DD-4002-94D2-C46AAB1A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274-CBC0-4669-90DC-EA2636CA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701-C998-42C2-ADAC-D8F330BE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424-1D05-4C19-8334-82AC049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8D6F-C25D-4CD5-A45E-DC1D76C3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879-1A88-430E-8096-CADDE5F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67C-BD7B-44EF-984E-0166F17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34A-9F5B-4330-909A-D7070CA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A27-36C3-4DAA-862C-955C14B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2943-69A1-4A25-AEF1-D6816D9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FD0-B1E1-4344-8312-0962AC6B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099-E4CF-41EE-8A81-8734FD5C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52DF-5849-4D30-B2E7-0C051B9A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E405-C7AE-42F3-BE40-480C58E7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9364-A011-42E4-9127-81190282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89EA-9D06-48D0-823A-08A9999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CB1B-2148-4F79-ABE0-15610F65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6B50-3AB9-4C17-A55E-6D10A8B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C19-AA3B-442A-9A3B-403655F7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30AC-423A-465E-B425-09084994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3CA5-7714-4594-A688-D6D54FBB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3F35-8C91-46C5-AA36-6385C205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D3ED-9913-47F6-BFC9-0D9B6A8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A1FE-D4CD-4104-8C49-D9EFC3F0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48ED-75E1-478E-963B-3E054A70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4B07-9547-4AC7-BA63-CFEA0538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903BB-D6D9-4495-90B9-07F6766D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373DE-987B-41CB-A968-9116162F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2155-BD73-4D46-B7C5-9889FD23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B42-BCC5-43B6-BAAD-0026389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B165-8867-41E5-812C-284512EA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54112-5900-4049-9EA7-ED144CF3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111F8-91D9-413E-991B-A1F4979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2F9B2-7570-465A-84B2-7625F3FA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15EC-CF96-48E6-A2CD-049B939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C9E4-F61B-46E5-BD8C-1DEA5329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19DC-4C85-48D6-A30B-759C71E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B29F-CE8D-4929-A795-3CA0D54B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F4FD-E4A0-4BF5-815C-E980188A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1D74-CFE3-4C25-84DB-02424D2D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55A-83A7-46C7-8A6C-2D6AC30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E2A3E-1EBC-472B-B26C-E90F2FA2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B3FD6-F7F7-4516-8F3D-4DF75F08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8CF21-5449-4AA1-81C1-091E58B7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E3F4-16D2-49E6-80F7-5534BCB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3B741-9358-4B47-B4DF-F77C71A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24FF7-6623-46E0-9E9D-3584B93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2EEBA-CE47-41B4-8BB7-781D7EA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2FA1-10C3-49FD-9D76-F9BEA20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5A42-3504-4A06-94E3-9EA39300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8DDA0-51E4-409C-9CE8-4F60F20E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83E-9DA6-4562-8D21-18978FA6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CA758-DA8B-4DF4-8D79-573CC502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81BA-67CA-4AFE-8C85-08ADEEFE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9EB82-FF6B-442C-BEC5-290FC8CB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16E0-E923-48FF-9EAD-EABCBFF3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E2DDA-A4FD-4881-AEB3-FB331FB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32286-1DA8-4762-971E-5EE5D20C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2EE21-4CCB-49B7-A158-3E717BF7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51CE-525A-4757-9C73-01C97A72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FCF13-2938-42F4-9283-E0031C6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5BB40-D9F9-46B3-A758-85F0C9D7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A6B-B17E-4293-BF5E-C4C708C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18110-379D-474E-872A-3DB75BB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5DF6-2241-4C3C-9F34-F45D3159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9B04-B033-42BE-AF3B-7F00C431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64B-ED33-4131-ACB0-225501A5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AC3-40D1-44E3-A4FE-F76F795D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44240" y="0"/>
              <a:ext cx="869976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64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96A-18D1-4743-B17D-3F885389CA52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1880" y="0"/>
                <a:ext cx="1823760" cy="4941720"/>
              </a:xfrm>
              <a:prstGeom prst="rect">
                <a:avLst/>
              </a:prstGeom>
              <a:solidFill>
                <a:srgbClr val="d2d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9800"/>
                <a:ext cx="9144000" cy="287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B18F-FDF7-4C6D-AE5F-43B086BB48E0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6280" cy="6858000"/>
            </a:xfrm>
            <a:prstGeom prst="rect">
              <a:avLst/>
            </a:prstGeom>
            <a:solidFill>
              <a:srgbClr val="d2d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6280" cy="1828800"/>
            </a:xfrm>
            <a:prstGeom prst="rect">
              <a:avLst/>
            </a:prstGeom>
            <a:solidFill>
              <a:srgbClr val="9fb8c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14040" y="2517480"/>
              <a:ext cx="7329960" cy="371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6C7C-50A9-42D5-AE15-13EBE84830E5}" type="slidenum">
              <a:rPr b="0" lang="fr-C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1880" y="0"/>
              <a:ext cx="1823760" cy="82332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06160" y="205560"/>
              <a:ext cx="83592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E03-A44F-49D7-B75A-C3837226482A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0760" y="205560"/>
              <a:ext cx="827280" cy="4114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63F1-8E26-490A-9EF8-377DAB0F8E54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1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7720" y="0"/>
              <a:ext cx="1826280" cy="6858000"/>
            </a:xfrm>
            <a:prstGeom prst="rect">
              <a:avLst/>
            </a:prstGeom>
            <a:solidFill>
              <a:srgbClr val="727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7720" y="0"/>
              <a:ext cx="1826280" cy="1676160"/>
            </a:xfrm>
            <a:prstGeom prst="rect">
              <a:avLst/>
            </a:prstGeom>
            <a:solidFill>
              <a:srgbClr val="9fb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12360" y="419040"/>
              <a:ext cx="837000" cy="838080"/>
            </a:xfrm>
            <a:prstGeom prst="ellipse">
              <a:avLst/>
            </a:prstGeom>
            <a:solidFill>
              <a:srgbClr val="727c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9fb8cd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9bbb59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8064a2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4bacc6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2219-1272-4695-9B13-7CA4757247A9}" type="slidenum">
              <a:rPr b="0" lang="fr-C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3" descr=""/>
          <p:cNvPicPr/>
          <p:nvPr/>
        </p:nvPicPr>
        <p:blipFill>
          <a:blip r:embed="rId1"/>
          <a:stretch/>
        </p:blipFill>
        <p:spPr>
          <a:xfrm>
            <a:off x="1889280" y="5870520"/>
            <a:ext cx="6584760" cy="493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000000"/>
                </a:solidFill>
                <a:uFillTx/>
                <a:latin typeface="Trebuchet MS"/>
              </a:rPr>
              <a:t>UN MONDE EN CHANGEME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Trebuchet MS"/>
              </a:rPr>
              <a:t>LA CHARTE CANADIENNE DES DROITS ET LIBERTÉ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z les points principaux de la Charte canadienne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Calibri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page 6. Écrivez 5 de ces points dans votre cartable. Le titre est « La Charte canadienne des droits et libertés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ensez et choisir laquelle des droits est le plus importants pour vous (et pourquoi) et choisir le droit qui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moins d’importance pour v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5" descr="MCj01495110000[1]"/>
          <p:cNvPicPr/>
          <p:nvPr/>
        </p:nvPicPr>
        <p:blipFill>
          <a:blip r:embed="rId1"/>
          <a:stretch/>
        </p:blipFill>
        <p:spPr>
          <a:xfrm>
            <a:off x="3809880" y="5143680"/>
            <a:ext cx="2533680" cy="1714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8088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 DANS TA VI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 mesure que tu vieillis, la loi t’autorise a avoir de plus en plus de pouvoir sur ta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 genre de changement surviennent en votre vi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ster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a maison se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ller magasiner avec vos am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ller voire un film avec vos am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Être gardienne des enf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AND VOUS ÊTES PLUS ÂGÉE!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droit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availler au salaire minim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Obtenir le permis de condu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voir le droit de vo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MCj03080590000[1]"/>
          <p:cNvPicPr/>
          <p:nvPr/>
        </p:nvPicPr>
        <p:blipFill>
          <a:blip r:embed="rId1"/>
          <a:stretch/>
        </p:blipFill>
        <p:spPr>
          <a:xfrm>
            <a:off x="7086600" y="4419720"/>
            <a:ext cx="1351080" cy="183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j0212957"/>
          <p:cNvPicPr/>
          <p:nvPr/>
        </p:nvPicPr>
        <p:blipFill>
          <a:blip r:embed="rId2"/>
          <a:stretch/>
        </p:blipFill>
        <p:spPr>
          <a:xfrm>
            <a:off x="6324480" y="205740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MCj02405310000[1]"/>
          <p:cNvPicPr/>
          <p:nvPr/>
        </p:nvPicPr>
        <p:blipFill>
          <a:blip r:embed="rId3"/>
          <a:stretch/>
        </p:blipFill>
        <p:spPr>
          <a:xfrm>
            <a:off x="3886200" y="4648320"/>
            <a:ext cx="1357200" cy="1825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C:\Users\Michelle.Skead\AppData\Local\Microsoft\Windows\Temporary Internet Files\Content.IE5\ZFX8F7J5\MC900441310[1].png"/>
          <p:cNvPicPr/>
          <p:nvPr/>
        </p:nvPicPr>
        <p:blipFill>
          <a:blip r:embed="rId4"/>
          <a:stretch/>
        </p:blipFill>
        <p:spPr>
          <a:xfrm>
            <a:off x="30492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NOMISATION PERSONNELL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-ce que ça veut dire? D’être capable d’agir en fonction de ses besoins, de ses désirs, de ses opinions, de ses croyances, et de ses sentim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beaucoup de choses que vous pouvez faire pour devenir auton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garder a la page 8 tous les choses les jeunes peuvent faire pour devenir autono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A LISTE DES IDÉES IMPORTANTES JUSQU’À MAINTENANT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es gens autonomes peuvent faire des choix au sujet de leur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une personne de prendre des dé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Notre constitution nous protègent contre l’abus de pouvo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a charte canadienne des droits et libertés nous garantie les droits et les libertés les plus fondamentau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mesure que nous vieillissons, nous avons plus de pouvoir dans notre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L’autonomisation personnelle consiste 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 exercer un certain contrôle sur sa v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j0195812"/>
          <p:cNvPicPr/>
          <p:nvPr/>
        </p:nvPicPr>
        <p:blipFill>
          <a:blip r:embed="rId1"/>
          <a:stretch/>
        </p:blipFill>
        <p:spPr>
          <a:xfrm>
            <a:off x="228600" y="259092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Fais ton « portrait dans l’avenir » en indiquant tes objectifs personnel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utilise des mots, illustrations et des photos pour représenter la personne que tu aimerais être dans 15 ans. Utilisez l’internet, des magazines etc.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Énumérez 5 choses vous pourrez faire dans les prochaines années pour atteindre vos objectif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4" descr="MCj04058920000[1]"/>
          <p:cNvPicPr/>
          <p:nvPr/>
        </p:nvPicPr>
        <p:blipFill>
          <a:blip r:embed="rId1"/>
          <a:stretch/>
        </p:blipFill>
        <p:spPr>
          <a:xfrm>
            <a:off x="152280" y="0"/>
            <a:ext cx="1676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ES QUES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904760" y="17521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genre d’emploi au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 université, collège communautaire, cours prendrez-vous pour obtenir votre emploi de choix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Où vivrez-vou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i seront les personnes importantes dans votre vie? Est-ce que vous aurez des animaux domestiq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Calibri"/>
              </a:rPr>
              <a:t>Quels seront vos loisir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Quelles choses voulez-vous apprendre? (langue, instrument, sport etc.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ent  est-ce que vous serez un membre actif dans votre communa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? (un ent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, u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e, participer dans des organisations culturelles/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ieuse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QUEL GENRE D’EMPLOI AUREZ-VOUS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’aimerai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  <a:ea typeface="Arial"/>
              </a:rPr>
              <a:t>ê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re une enseigna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3" descr="C:\Documents and Settings\Michelle.Skead\Local Settings\Temporary Internet Files\Content.IE5\P0USHBD3\MC900029925[1].wmf"/>
          <p:cNvPicPr/>
          <p:nvPr/>
        </p:nvPicPr>
        <p:blipFill>
          <a:blip r:embed="rId1"/>
          <a:stretch/>
        </p:blipFill>
        <p:spPr>
          <a:xfrm>
            <a:off x="4419720" y="3200400"/>
            <a:ext cx="22096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RTRAIT DANS L’AVENI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ME AUDOU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RILLE D’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ALUAT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85800" y="1905120"/>
          <a:ext cx="7315200" cy="4336920"/>
        </p:xfrm>
        <a:graphic>
          <a:graphicData uri="http://schemas.openxmlformats.org/drawingml/2006/table">
            <a:tbl>
              <a:tblPr/>
              <a:tblGrid>
                <a:gridCol w="2394000"/>
                <a:gridCol w="1152360"/>
                <a:gridCol w="1068480"/>
                <a:gridCol w="1349280"/>
                <a:gridCol w="135108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ell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rès bi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ccep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omplè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</a:t>
                      </a:r>
                      <a:r>
                        <a:rPr b="1" lang="fr-CA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ressez la liste de quest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ous avez des photos/illustrations qui représentent vos répons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9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t-ce que c’est propre ? claire ? Effor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et m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Rectangle 135"/>
          <p:cNvSpPr/>
          <p:nvPr/>
        </p:nvSpPr>
        <p:spPr>
          <a:xfrm>
            <a:off x="0" y="517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L’AUTONOMISATION: UN CASSE-TÊ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écouvrir les différentes formes de 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Vous allez travailler en groupe. Chaque membre de groupe devra lire et résumer UNE des formes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onc chaque personne va jouer le rôle de spécialiste d’une forme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Dans vos groupes, vous déciderez qui va être spécialiste de quo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*** Chaque personne est responsable d’écrire un résumé sur leur forme d’autonomis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 monde a toujours changé. Tu sais que tes parents et tes grands parents vivaient différemment quand ils avaient ton â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i chang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i ne change p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el pouvoir les gens ont-ils pour transformer le mond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Après que tous les membres ont fini, tous les spécialistes d’autonomisation économique, politique, culturelle, sociale, nationale vont discuter ensemble pour être certaine qu’ils ont tout l’information dans leur résum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ssayer d’écrire une phrase qui résume le type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Rejoindre votre groupe origin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MCj02512250000[1]"/>
          <p:cNvPicPr/>
          <p:nvPr/>
        </p:nvPicPr>
        <p:blipFill>
          <a:blip r:embed="rId1"/>
          <a:stretch/>
        </p:blipFill>
        <p:spPr>
          <a:xfrm>
            <a:off x="3505320" y="228600"/>
            <a:ext cx="213336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Vous allez partager votre résumé bref avec votre groupe. Être certaine que tous le monde comprend les différentes forme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Nous allons maintenant résumé ensemble les 5 formes d’autonomis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 y a cinq formes d’autonomisation: économique, politique, sociale, culturelle et nation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4792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économiqu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on a assez de richesses pour satisfaire nos beso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politiqu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veut dire avoir son mot a dire dans l’organisation  des choses et dans la prise de décisions. (ex: le droit de vo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culturel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signifie vivre sa culture en toute libert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socia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tous les membres d’une société sont traités de façon juste et équ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000000"/>
                </a:solidFill>
                <a:uFillTx/>
                <a:latin typeface="Calibri"/>
              </a:rPr>
              <a:t>L’autonomisation nationale</a:t>
            </a: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 existe quand une nation a le pouvoir de prendre des décisions pour elle-mê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1676520" y="5335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Il y a cinq formes d’autonomis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4792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existe quand tous les membres d’une société sont traités de façon juste et équ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consiste a avoir son mot a dire dans l’organisation  des choses et dans la prise de décisions. (gov’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signifie pouvoir vivre sa culture en toute libert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existe quand on possède suffisamment de richesses pour satisfaire ses beso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Calibri"/>
              </a:rPr>
              <a:t>______________________ existe quand une nation a le pouvoir de prendre des décisions pour elle-mê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676520" y="533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000000"/>
                </a:solidFill>
                <a:latin typeface="Arial"/>
              </a:rPr>
              <a:t>Quiz- 1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MPj04036190000[1]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MCj00906020000[1]"/>
          <p:cNvPicPr/>
          <p:nvPr/>
        </p:nvPicPr>
        <p:blipFill>
          <a:blip r:embed="rId2"/>
          <a:stretch/>
        </p:blipFill>
        <p:spPr>
          <a:xfrm>
            <a:off x="457200" y="3048120"/>
            <a:ext cx="2616120" cy="1903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MCFL00115_0000[1]"/>
          <p:cNvPicPr/>
          <p:nvPr/>
        </p:nvPicPr>
        <p:blipFill>
          <a:blip r:embed="rId3"/>
          <a:stretch/>
        </p:blipFill>
        <p:spPr>
          <a:xfrm>
            <a:off x="6248520" y="2514600"/>
            <a:ext cx="2514600" cy="1974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1" descr="MCBD19728_0000[1]"/>
          <p:cNvPicPr/>
          <p:nvPr/>
        </p:nvPicPr>
        <p:blipFill>
          <a:blip r:embed="rId4"/>
          <a:stretch/>
        </p:blipFill>
        <p:spPr>
          <a:xfrm rot="1137000">
            <a:off x="4800600" y="4648320"/>
            <a:ext cx="1884240" cy="1776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MCBD19932_0000[1]"/>
          <p:cNvPicPr/>
          <p:nvPr/>
        </p:nvPicPr>
        <p:blipFill>
          <a:blip r:embed="rId5"/>
          <a:stretch/>
        </p:blipFill>
        <p:spPr>
          <a:xfrm>
            <a:off x="3048120" y="1447920"/>
            <a:ext cx="2867040" cy="2627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CBD19893_0000[1]"/>
          <p:cNvPicPr/>
          <p:nvPr/>
        </p:nvPicPr>
        <p:blipFill>
          <a:blip r:embed="rId6"/>
          <a:stretch/>
        </p:blipFill>
        <p:spPr>
          <a:xfrm>
            <a:off x="1219320" y="5105520"/>
            <a:ext cx="1676160" cy="147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MCj03046870000[1]"/>
          <p:cNvPicPr/>
          <p:nvPr/>
        </p:nvPicPr>
        <p:blipFill>
          <a:blip r:embed="rId7"/>
          <a:stretch/>
        </p:blipFill>
        <p:spPr>
          <a:xfrm>
            <a:off x="533520" y="457200"/>
            <a:ext cx="1827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A DÉPENDANC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Jusqu’à maintenant, vous avez étudié l’importance de l’autonomisation. Dans cette section vous irez apprendre ce que c’est la dépendance, c’est-à-dire l’affaiblissement de l’autonom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sans autonomie ont l’impression d’avoir peu de contrôle sur leur vie. Ils pensent qu’ils n’ont pas le pouvoir de faire des choix concernant des choses importantes pour eux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A DÉPENDANCE CONT.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économique si tu n’as pas assez de l’argent pour acheter ce qui est nécessair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politique si tu ne peux pas voter, tu n’as pas ton mot dans les décision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sociale si vous n’êtes pas tous égaux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culturelle si vous ne pouviez pas pratiquer votre religion, langue, traditions etc.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Calibri"/>
              </a:rPr>
              <a:t>Vous êtes dans une situation de dépendance nationale si un autre pays fait les décisions pour votre pay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ES DROITS DE LA PERSONNE AU COURS DE L’HISTOIRE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jourd’hui on parle beaucoup des droits de la person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 Canada, les droits de la personne ont changé au fil des 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Autrefois, les autorités avaient le droit légal de priver un individu de ses droits fondamentaux tels que voter, posséder une terre, ou se trouver un emplo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Peu a peu les lois ont été modifiées pour rendre la société plus jus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Calibri"/>
              </a:rPr>
              <a:t>Toutefois tous n’est pas parfait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ES ENFANTS ET LA DÉPENDANC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enfants représentent un des groupes de la société qui peut facilement perdre son autonom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arce que les adultes détiennent l’autorité dans la plupart des c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n 1990, le Canada a signe la Convention sur les droits de l’enfan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enfants ont le droit de grandir dans un foyer chaleureux, de jouer et d’être éduqu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5" descr="MCj03981470000[1]"/>
          <p:cNvPicPr/>
          <p:nvPr/>
        </p:nvPicPr>
        <p:blipFill>
          <a:blip r:embed="rId1"/>
          <a:stretch/>
        </p:blipFill>
        <p:spPr>
          <a:xfrm>
            <a:off x="304920" y="152280"/>
            <a:ext cx="12938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RÉFLÉCHIS!! PG. 2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828800" y="198072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Réponds aux questions suivant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Qui avait l’autorité et le pouvoir dans cette histoire? Un individu, un organisme, ou un gouvernement nationa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Ces actes ont-ils affaibli l’autonomisation de quelqu’un? Si oui, qui et comm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Si tu avais été une de ces personnes en situation d’autorité et de pouvoir, aurais-tu agi différemm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2920" indent="-502920">
              <a:spcBef>
                <a:spcPts val="1800"/>
              </a:spcBef>
              <a:buClr>
                <a:srgbClr val="727ca3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alibri"/>
              </a:rPr>
              <a:t>Écris ta réaction personnel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NOMIS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Qu’est ce que c’est l’autonomisatio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orsque les gens sont l’autonomes, ils peuvent faire des choix et transformer le monde s’ils croient qu’un changement est nécessai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Pouvez-vous donnez une exemple?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Vous êtes autonomes! Écrire 3 choses que vous désirez changer dans la vie mainten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Organization Chart 7"/>
          <p:cNvGrpSpPr/>
          <p:nvPr/>
        </p:nvGrpSpPr>
        <p:grpSpPr>
          <a:xfrm>
            <a:off x="533520" y="2057400"/>
            <a:ext cx="8228880" cy="4341960"/>
            <a:chOff x="533520" y="2057400"/>
            <a:chExt cx="8228880" cy="4341960"/>
          </a:xfrm>
        </p:grpSpPr>
        <p:cxnSp>
          <p:nvCxnSpPr>
            <p:cNvPr id="280" name="_s1028"/>
            <p:cNvCxnSpPr>
              <a:stCxn id="281" idx="0"/>
              <a:endCxn id="282" idx="2"/>
            </p:cNvCxnSpPr>
            <p:nvPr/>
          </p:nvCxnSpPr>
          <p:spPr>
            <a:xfrm flipV="1" rot="16200000">
              <a:off x="5653440" y="278748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029"/>
            <p:cNvCxnSpPr>
              <a:stCxn id="284" idx="0"/>
              <a:endCxn id="282" idx="2"/>
            </p:cNvCxnSpPr>
            <p:nvPr/>
          </p:nvCxnSpPr>
          <p:spPr>
            <a:xfrm flipV="1">
              <a:off x="4647600" y="3793680"/>
              <a:ext cx="3240" cy="869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030"/>
            <p:cNvCxnSpPr>
              <a:stCxn id="286" idx="0"/>
              <a:endCxn id="282" idx="2"/>
            </p:cNvCxnSpPr>
            <p:nvPr/>
          </p:nvCxnSpPr>
          <p:spPr>
            <a:xfrm flipH="1" flipV="1" rot="5400000">
              <a:off x="2773080" y="2787840"/>
              <a:ext cx="869040" cy="2880720"/>
            </a:xfrm>
            <a:prstGeom prst="bentConnector3">
              <a:avLst>
                <a:gd name="adj1" fmla="val 131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031"/>
            <p:cNvSpPr/>
            <p:nvPr/>
          </p:nvSpPr>
          <p:spPr>
            <a:xfrm>
              <a:off x="3413520" y="205740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’autonomis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>
              <a:off x="53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voir du pouvoi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3"/>
            <p:cNvSpPr/>
            <p:nvPr/>
          </p:nvSpPr>
          <p:spPr>
            <a:xfrm>
              <a:off x="341352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ndre se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pres décis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034"/>
            <p:cNvSpPr/>
            <p:nvPr/>
          </p:nvSpPr>
          <p:spPr>
            <a:xfrm>
              <a:off x="6293880" y="4662720"/>
              <a:ext cx="2468520" cy="1736640"/>
            </a:xfrm>
            <a:prstGeom prst="roundRect">
              <a:avLst>
                <a:gd name="adj" fmla="val 16667"/>
              </a:avLst>
            </a:prstGeom>
            <a:solidFill>
              <a:srgbClr val="727c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e sentir puissan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rebuchet MS"/>
              </a:rPr>
              <a:t>L’AUTORITÉ ET LE POUVOI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es gens autonomes sentent qu’ils contrôlent facilement leur v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peuvent faire des choix importants, comme choisir une profession ou un lieu de résid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Ils ont l’autorité de prendre des décisions importantes et le pouvoir de les mettre en applic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rebuchet MS"/>
              </a:rPr>
              <a:t>L’AUTORITÉ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’autorité donne le droit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une personne de prendre des décisions dans une situation préc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Dans notre vie, il y a des gens qui ont l’autorité de prendre des décisions pour no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4" descr="MCj03596510000[1]"/>
          <p:cNvPicPr/>
          <p:nvPr/>
        </p:nvPicPr>
        <p:blipFill>
          <a:blip r:embed="rId1"/>
          <a:stretch/>
        </p:blipFill>
        <p:spPr>
          <a:xfrm>
            <a:off x="4114800" y="4572000"/>
            <a:ext cx="1587600" cy="1908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Michelle.Skead\AppData\Local\Microsoft\Windows\Temporary Internet Files\Content.IE5\ZFX8F7J5\MC900441310[1].png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 u="sng">
                <a:solidFill>
                  <a:srgbClr val="000000"/>
                </a:solidFill>
                <a:uFillTx/>
                <a:latin typeface="Calibri"/>
              </a:rPr>
              <a:t>Acquérir l’autorité</a:t>
            </a: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s gens nomment la personne pour prendre des décisions pour l’équipe/groupe. Exemple: capitaine d’une équi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 u="sng">
                <a:solidFill>
                  <a:srgbClr val="000000"/>
                </a:solidFill>
                <a:uFillTx/>
                <a:latin typeface="Calibri"/>
              </a:rPr>
              <a:t>L’autorisation Légale</a:t>
            </a:r>
            <a:r>
              <a:rPr b="0" lang="fr-CA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 le gouvernement du Canada crée des lois que toute la population canadienne doit respecter. Nos parents et les policiers ont aussi l’autorité lég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777240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rebuchet MS"/>
              </a:rPr>
              <a:t>FAIRE UNE CHAINE DE COMMANDE AVEC TON NOM AU MILIEU. QUI A L’AUTORITÉ DANS VOTRE VIE? INCLURE AU MOINS 10!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Diagram 1" descr=""/>
          <p:cNvPicPr/>
          <p:nvPr/>
        </p:nvPicPr>
        <p:blipFill>
          <a:blip r:embed="rId1"/>
          <a:stretch/>
        </p:blipFill>
        <p:spPr>
          <a:xfrm>
            <a:off x="457200" y="2279520"/>
            <a:ext cx="8686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Trebuchet MS"/>
              </a:rPr>
              <a:t>NOTRE CONSTITU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Une constitution est l’ensemble des lois que le gouvernement doit respecter. Elle nous protège contre l’abus de pouvo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La charte canadienne des droits et libertés fait partie de notre constitu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727ca3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Elle garantie les droits et les libertés le plus fondamentaux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  <a:ea typeface="Arial"/>
              </a:rPr>
              <a:t>à </a:t>
            </a:r>
            <a:r>
              <a:rPr b="0" lang="fr-CA" sz="2200" spc="-1" strike="noStrike">
                <a:solidFill>
                  <a:srgbClr val="000000"/>
                </a:solidFill>
                <a:latin typeface="Calibri"/>
              </a:rPr>
              <a:t>toutes les Canadiennes et les Canadie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C:\Users\Michelle.Skead\AppData\Local\Microsoft\Windows\Temporary Internet Files\Content.IE5\ZFX8F7J5\MC900441310[1].pn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3:44:06Z</dcterms:created>
  <dc:creator>Administrator</dc:creator>
  <dc:description/>
  <dc:language>en-US</dc:language>
  <cp:lastModifiedBy>ED18</cp:lastModifiedBy>
  <dcterms:modified xsi:type="dcterms:W3CDTF">2013-11-18T01:34:43Z</dcterms:modified>
  <cp:revision>35</cp:revision>
  <dc:subject/>
  <dc:title>Un monde en changement</dc:title>
</cp:coreProperties>
</file>